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606-3D52-4D96-A12F-9F17D72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BB2-03F4-4793-86BA-E446F261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50B-E5C7-483C-88CC-E8A0F800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56D-6DB3-4C43-A767-B9BD2BC6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D59-DF71-491F-A9F3-CC2AC18E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516-F078-421E-B0F7-1D1F4297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D14-47B9-49CC-8D7D-5F269BA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5F0-41F8-44FD-9538-4E675B21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4F0-AB50-4B47-A0CD-13FE61B1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C13-7CA6-4FDD-9F71-FEAB2B0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458-B470-4AB4-9C75-061DE85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9EC-57C1-4BE6-901A-1F44D6F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F4E1-5844-433C-8666-1693EBC1BF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global commun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4D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819520"/>
                <a:gridCol w="136656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Ramkumar, Birgit, Saskia, Ann, K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IP and collective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Haile Ramkumar, Birgit, Sask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value chain analysis/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rek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Ramkumar, Birgit, Saskia, K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(short) on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/KMIS/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/edi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(short) on key mess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 / K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 / 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ki / blo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/Ewen/ resource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 / 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3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: check with IFAD about template/model/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LRI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2451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1081080"/>
                <a:gridCol w="296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OM within ILRI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OM map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R4D partner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R4D partner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IPs, hubs, collective action (or possibly beyond ILRI, e.g. ACIAR worksho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imGo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ternal discussion/research reports based on imGoats (see research commun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ee research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ee research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: reflection meetings open for discussion; only when  considered relevant within ILRI; some issues can possibly be 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esearch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197000"/>
          <a:ext cx="8642160" cy="5508720"/>
        </p:xfrm>
        <a:graphic>
          <a:graphicData uri="http://schemas.openxmlformats.org/drawingml/2006/table">
            <a:tbl>
              <a:tblPr/>
              <a:tblGrid>
                <a:gridCol w="3241440"/>
                <a:gridCol w="1155960"/>
                <a:gridCol w="982440"/>
                <a:gridCol w="3262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value of OM in R4D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ata delivery validation/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on IP process and outco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ata delivery validation/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rticle VCA/Approach in imGoats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ty from Derek/Acho (Kees to follow up by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on goat productions systems in India (exact topic to be determi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goat productions systems in Moz. (exact topic to be determi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Birg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le on relevance of context….(to be worked out) (not clear 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o be discuss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u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research reports/article from each country (e.g. in Mozambiqu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git, 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iscussed with Saskia, and Birgit/Ramkumar (follow up Kees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‘technical’ articles/research reports from each country (e.g. de-worming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s on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iscussed with Saskia (follow up by Kees  by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udent/master the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depe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pervi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: In case of articles, first ILRI discussion paper (Dec), which can be submitted to journal with minor modificat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work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268280"/>
          <a:ext cx="8785440" cy="5437440"/>
        </p:xfrm>
        <a:graphic>
          <a:graphicData uri="http://schemas.openxmlformats.org/drawingml/2006/table">
            <a:tbl>
              <a:tblPr/>
              <a:tblGrid>
                <a:gridCol w="2880000"/>
                <a:gridCol w="1081080"/>
                <a:gridCol w="718920"/>
                <a:gridCol w="4105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/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research strategy/work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research strategy/work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back Saskia, Birgit, Ramkumar, Acho/Derek, 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lines products (1-2 pa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pers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S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ualization through Brainstorm, feedback, interaction if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elivery / statistical analysis (Jane) / check with principle researc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Technical advisory Notes (T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, Haile, DB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e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writing/feedback (Birgit, Ramkumar, Saskia, An,  ILRI/IFA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Technical Advisor Notes (T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, Haile, DB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 (che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writing/feedback (Birgit, Ramkumar, Saskia, An, ILRI/IFA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ILRI discussion/research 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tion co-authors (depends  on produ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ILRI discussion/research 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back internal reviewers / co-authors/ communication/editing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 articles to jour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’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internal reflection meetings (i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, 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tion resource people from other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/wiki/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Swaans, Kees (ILRI)</cp:lastModifiedBy>
  <dcterms:modified xsi:type="dcterms:W3CDTF">2012-07-06T07:47:13Z</dcterms:modified>
  <cp:revision>9</cp:revision>
  <dc:subject/>
  <dc:title>IM Goats action plan July 2012</dc:title>
</cp:coreProperties>
</file>